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0ED-2F78-44AB-87BE-B2DC7EC8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389-4B12-4A6B-942B-AAFC08D8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D77-D680-481B-86B4-825C1EB6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17D-4377-436E-8012-64D4CD6F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426-49E7-4A1C-BCC1-BC9B0CC4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F9F-524D-44D9-8A7E-5D5B0455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982-C313-4DDA-BFEA-58D70F16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ACB-06E7-4022-A34F-F623275C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706-7812-4350-941B-A235DC01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2D9-622D-4FEB-A009-CFC5D52A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D26-DEB8-4551-B906-2737DCB7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BDA-B3FE-4674-9088-14CAD91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954-99FB-4BA9-9373-91C54C46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City Sta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6858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7315200" y="342900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240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icilies goes all the way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5:49:18Z</dcterms:created>
  <dc:creator>jobert</dc:creator>
  <dc:description/>
  <dc:language>en-US</dc:language>
  <cp:lastModifiedBy>jobert</cp:lastModifiedBy>
  <dcterms:modified xsi:type="dcterms:W3CDTF">2012-05-03T15:53:39Z</dcterms:modified>
  <cp:revision>3</cp:revision>
  <dc:subject/>
  <dc:title>City State Map</dc:title>
</cp:coreProperties>
</file>